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A43-7FDB-49E5-84A0-BBA2EF51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951-A040-45A2-B9CE-42EDA6B0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D42-EF5A-4DC2-82BB-567BD577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353-4030-4DEB-80AB-47DD8EF4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6A3-7A33-41CD-BC61-47CA9E08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7497-9EE3-4BD8-BF6D-5FDA953E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5CB1-B5AF-4DC1-94D7-7F20CA0B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760B-5249-47F3-ABDD-785F1575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F06-E246-403C-A10F-FF8AFCE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43AB-F707-438F-8B49-3E557B1F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6BC8-9422-418E-B182-9326CC04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251-A208-4990-BA63-0C57699E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50FE-D32E-4D81-81E3-A96B8C9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B4E3-5D5A-4AAB-8E68-DC1DB9A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7AE4-38C3-4BF0-8454-DC05495F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B7DF-E978-4036-AC52-5CCD9FEA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ABD6-883D-41B0-8B72-2F3E1B36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D2E-D0CA-4AE2-BD93-6ADA393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245-8DB4-4EB0-B0D7-F25C259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8E4-430F-439D-99AA-05A739DF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35C-E083-4591-B1FA-E07C12FD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15A-B752-4343-971E-21129625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CFA-2471-4B89-855C-516B56C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1A0-2456-4A3E-B2CB-1EE32AF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11ABE0-9EB4-49D4-8BB6-73DC89EEC54A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9DB07A-37A9-433D-9C6F-3C9CE87F378D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9600" spc="-1" strike="noStrike">
                <a:solidFill>
                  <a:srgbClr val="10243e"/>
                </a:solidFill>
                <a:latin typeface="Calibri"/>
              </a:rPr>
              <a:t>KIJIJ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Canada’s #1 Free Online Classifi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320004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bfbfbf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bfbfbf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thinking.jpg"/>
          <p:cNvPicPr/>
          <p:nvPr/>
        </p:nvPicPr>
        <p:blipFill>
          <a:blip r:embed="rId1"/>
          <a:stretch/>
        </p:blipFill>
        <p:spPr>
          <a:xfrm>
            <a:off x="4267080" y="2362320"/>
            <a:ext cx="4420440" cy="28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809520" cy="37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hat is Kij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ast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Purpose and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  <a:tabLst>
                <a:tab algn="l" pos="0"/>
              </a:tabLst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ommunity.jpg"/>
          <p:cNvPicPr/>
          <p:nvPr/>
        </p:nvPicPr>
        <p:blipFill>
          <a:blip r:embed="rId1"/>
          <a:stretch/>
        </p:blipFill>
        <p:spPr>
          <a:xfrm>
            <a:off x="4495680" y="224784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43400" y="2057400"/>
            <a:ext cx="449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st of membe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eedom of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rge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Wid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User frien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No Cost.jpg"/>
          <p:cNvPicPr/>
          <p:nvPr/>
        </p:nvPicPr>
        <p:blipFill>
          <a:blip r:embed="rId1"/>
          <a:stretch/>
        </p:blipFill>
        <p:spPr>
          <a:xfrm>
            <a:off x="914400" y="2590920"/>
            <a:ext cx="260388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ack of personal interaction between administrators a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alse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rau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reditCardFraud.jpg"/>
          <p:cNvPicPr/>
          <p:nvPr/>
        </p:nvPicPr>
        <p:blipFill>
          <a:blip r:embed="rId1"/>
          <a:stretch/>
        </p:blipFill>
        <p:spPr>
          <a:xfrm>
            <a:off x="4800600" y="3581280"/>
            <a:ext cx="3501000" cy="26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9718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Verification off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Local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Encourage different paymen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Other safety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bbq.jpg"/>
          <p:cNvPicPr/>
          <p:nvPr/>
        </p:nvPicPr>
        <p:blipFill>
          <a:blip r:embed="rId1"/>
          <a:stretch/>
        </p:blipFill>
        <p:spPr>
          <a:xfrm>
            <a:off x="5791320" y="1621080"/>
            <a:ext cx="2504160" cy="226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solidFill>
            <a:srgbClr val="8eb4e3"/>
          </a:solidFill>
          <a:ln w="76320">
            <a:solidFill>
              <a:srgbClr val="254061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17375e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Reason for exis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Diverse selection of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Security comprom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Follow safety t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d9d9d9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d9d9d9"/>
                </a:solidFill>
                <a:latin typeface="Calibri"/>
              </a:rPr>
              <a:t>Convenience outweighs the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balance-scale.jpg"/>
          <p:cNvPicPr/>
          <p:nvPr/>
        </p:nvPicPr>
        <p:blipFill>
          <a:blip r:embed="rId1"/>
          <a:stretch/>
        </p:blipFill>
        <p:spPr>
          <a:xfrm>
            <a:off x="6705720" y="2133720"/>
            <a:ext cx="1828440" cy="12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133720" y="2514600"/>
            <a:ext cx="518112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21"/>
              </a:spcBef>
              <a:buNone/>
              <a:tabLst>
                <a:tab algn="l" pos="0"/>
              </a:tabLst>
            </a:pPr>
            <a:r>
              <a:rPr b="0" lang="en-CA" sz="8600" spc="-1" strike="noStrike">
                <a:solidFill>
                  <a:srgbClr val="d9d9d9"/>
                </a:solidFill>
                <a:latin typeface="Calibri"/>
              </a:rPr>
              <a:t>Thank You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  <Words>88</Words>
  <Paragraphs>42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3:03Z</dcterms:created>
  <dc:creator>Brett</dc:creator>
  <dc:description/>
  <dc:language>en-US</dc:language>
  <cp:lastModifiedBy>Michelle Mah</cp:lastModifiedBy>
  <dcterms:modified xsi:type="dcterms:W3CDTF">2008-11-26T22:07:39Z</dcterms:modified>
  <cp:revision>12</cp:revision>
  <dc:subject/>
  <dc:title>KIJI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